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91CCC5-D56C-4457-AE3E-2BDBD8DED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transit is something we all have to deal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nd less parking due to less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Mall Park and 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Bus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bus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between local, NYC and Newark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es at least every half-hour to NYC, on Weekends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 commuter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1 has increased comm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lots along the routes have closed to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ns closed and was replaced with Bloomingd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uring construction commuters were parking next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0 comm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wbrook under pressure from Bloomingdales reduced spaces to original 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s is at 1680 to include 5%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80 commuters includes people being dropped 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ED1-5173-4819-9435-D2559090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86B-C9AA-4770-8366-6DC35E4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94C-16AD-40CC-83B1-5C92424A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8C7-8692-43A1-B6AD-6554A88E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11DA-5C67-46A6-81BE-40086A7C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647B-EF0E-4679-8949-E9299F5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32D5-DC63-4C83-AB91-ED0053F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3E6D-ED16-4562-8083-57A3D8E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68D6-EFA7-47E6-9B34-C5451046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16A7-73D1-407D-B161-8C6EDAA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2FD-FAFB-43CC-B1C5-BF9FF2C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23D-75A0-499C-B7E9-31F743E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91C4-3A2C-4A21-8642-CAD50F8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3032-C422-414A-B773-0FECE22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4D7-84CC-4DDA-A162-1A2B4D1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4A2A-AD25-4493-840C-F09FA63A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0829-89B5-4BD6-A954-CE4DB9CD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E6F-ED37-4F64-84DD-2D3BE82C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EE2-003A-4ECD-A1C7-FF3E7CEF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B81-5088-430E-9881-9C39F5CA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BA8-D3BF-4B16-BDD0-7FD164FB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9FC-3B03-424B-8599-98739CB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C41-8DE6-498C-B20D-AFAE863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EA0-2EB2-4062-BF0C-1671571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237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e76f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49E-65A4-4AE4-AAB6-85D9E61DD502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e76f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2f2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aa1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2f2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ABFE-B5A5-407D-A3EB-5B502F847499}" type="slidenum">
              <a:rPr b="0" lang="en-US" sz="10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e76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2f23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cc0066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e76f1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2f2377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Kevin Che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ui Shao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Ailish Rya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Nancy Simon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Robert Stanich</a:t>
            </a:r>
            <a:endParaRPr b="0" lang="en-US" sz="19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28584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4492800"/>
            <a:ext cx="8077320" cy="19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3276720"/>
            <a:ext cx="8075520" cy="144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8077320" cy="2390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5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f2377"/>
                </a:solidFill>
                <a:uFillTx/>
                <a:latin typeface="Garamond"/>
              </a:rPr>
              <a:t>Model Detai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809880"/>
            <a:ext cx="335304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257800"/>
            <a:ext cx="3352680" cy="9144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Tracking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1611360"/>
            <a:ext cx="6323040" cy="60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3276720"/>
            <a:ext cx="54864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05520"/>
            <a:ext cx="274320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2290680"/>
            <a:ext cx="632304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82296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Statistics and Forecast Cell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4764240" cy="2476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3352680" cy="295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34290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Bus Depart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838224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Optimized Schedul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560" y="1589040"/>
            <a:ext cx="7551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Results: Performance Measure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505320" cy="21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85800" y="4527720"/>
            <a:ext cx="3505320" cy="217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00600" y="4495680"/>
            <a:ext cx="3505320" cy="2176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668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Wait: 3.13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1447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an Interval: 6.5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1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x. Wait: 7.9 M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114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uses Req.: 23 [mode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Lessons Learned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art Simpl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dd Incremental Layers of Complexit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del is Approximatio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udit Extensivel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tch Out for Zero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Values! Use Filter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re Than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Way to Go.”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19760" y="3200400"/>
            <a:ext cx="38433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2f2377"/>
                </a:solidFill>
                <a:latin typeface="Garamond"/>
              </a:rPr>
              <a:t>Modeling Bus Schedules</a:t>
            </a:r>
            <a:endParaRPr b="0" lang="en-US" sz="58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9528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Verdana"/>
              </a:rPr>
              <a:t>Q&amp;A</a:t>
            </a:r>
            <a:endParaRPr b="0" lang="en-US" sz="9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389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436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934320" y="0"/>
            <a:ext cx="2209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Willowbrook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Verdana"/>
              </a:rPr>
              <a:t>Park and Rid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Legen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een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800 Original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Blue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Overflow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d –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400 Extra Spa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Willowbrook Mall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ajor Bus Hub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located 800 Commuter Spaces With 400 Overflow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sing 1600 Spaces!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rns becomes Bloomingdal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illowbrook Mall Enforces Original 8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Mothers Park and Rid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nly Few Miles Away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900 Spac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cheduling is More Complicated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rvicing Both Location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imited Service - Only Rush Hour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s There a Better Solution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36480" y="1960560"/>
          <a:ext cx="7685280" cy="262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960560"/>
                    <a:ext cx="768528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Constraints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680 commuters during the peak hours (5:00 am - 8:30 am)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3 buses available to this route during peak hour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bus holds 57 passengers – buses leave once full or have been standing 8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76f15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ak hours roundtrip – beta distribution with a mean of 122 minute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1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Round Trip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29000" y="3886200"/>
          <a:ext cx="5257800" cy="2387520"/>
        </p:xfrm>
        <a:graphic>
          <a:graphicData uri="http://schemas.openxmlformats.org/drawingml/2006/table">
            <a:tbl>
              <a:tblPr/>
              <a:tblGrid>
                <a:gridCol w="2039760"/>
                <a:gridCol w="3218040"/>
              </a:tblGrid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nstraint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Bus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Queue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7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ax Wait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und Trip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2 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01992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908000"/>
            <a:ext cx="5713560" cy="3649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377"/>
                </a:solidFill>
                <a:latin typeface="Garamond"/>
              </a:rPr>
              <a:t>Random Variable (2):</a:t>
            </a:r>
            <a:br>
              <a:rPr sz="4800"/>
            </a:br>
            <a:r>
              <a:rPr b="0" lang="en-US" sz="2500" spc="-1" strike="noStrike">
                <a:solidFill>
                  <a:srgbClr val="2f2377"/>
                </a:solidFill>
                <a:latin typeface="Garamond"/>
              </a:rPr>
              <a:t>– Passenger Arrival Time</a:t>
            </a:r>
            <a:endParaRPr b="0" lang="en-US" sz="25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50292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377"/>
                </a:solidFill>
                <a:latin typeface="Garamond"/>
              </a:rPr>
              <a:t>Estimating Passenger Arrival Rate</a:t>
            </a:r>
            <a:endParaRPr b="0" lang="en-US" sz="4400" spc="-1" strike="noStrike">
              <a:solidFill>
                <a:srgbClr val="2f2377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666880"/>
            <a:ext cx="8001000" cy="255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44:37Z</dcterms:created>
  <dc:creator>Nancy Simon</dc:creator>
  <dc:description/>
  <dc:language>en-US</dc:language>
  <cp:lastModifiedBy>Kevin Chen</cp:lastModifiedBy>
  <dcterms:modified xsi:type="dcterms:W3CDTF">2002-12-12T05:44:28Z</dcterms:modified>
  <cp:revision>17</cp:revision>
  <dc:subject/>
  <dc:title>Introduction</dc:title>
</cp:coreProperties>
</file>